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DE4-C023-40C3-9EAB-0C59C39C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B9B-70D7-48C0-9716-A889483F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E22-686D-4F2A-8CCF-A8613E42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ED9-DD9A-409E-82E0-23BE9165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2DA-7B96-42D8-AA8E-BAC92D68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321-A0E3-4FD6-95EF-E6E40FEF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790-02AD-4F3D-957D-603C8B20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73E-2E6D-4675-B5DD-B3F53AA1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91D1-6D42-46EF-8E23-2CD8AAF1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172-85C2-4A8A-BECB-0AD01908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15D-3A2E-4C6B-9DC7-6BB63972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462-4851-4161-A923-61A67BB4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2C93-218D-44FF-97CC-8FA711DC7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4292640"/>
            <a:ext cx="5184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8064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Приемное отделени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936360" cy="93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42920" y="393372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4771800" cy="390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492360" y="479736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372360" y="3573360"/>
            <a:ext cx="809640" cy="155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E22-D9FE-4D37-8752-EB613B785D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Оснащение распределительного по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дио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бор для определения наличия АХОВ в воздухе салона машин скорой медицинской пом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щитная фильтрующая одеж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нание фельдшером (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) своих функциональных обязанностей: распределение потока пораженных на ходячих,  носилочных, соматических, загрязненных РВ и АХОВ, незагрязненных (чистых), зараженных бактериальными вещест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445-87DE-49BA-B302-7002F28200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915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ичие в вестибюле – отдельно подставок (козлов) для носилочных пораж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ичие обменного фонда носи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ичие аптечки первой помощи на случай радиационной ав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ичие ката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л для м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ивидуальные дозиметры для персон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17F-044D-4F35-B22A-6ADDD86F24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Санитарный пропуск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еталлическая ката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боры для стрижки волос и бри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ластиковые пакеты для упаковки волос, нижнего бел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чалка, мыло, полотенце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0A6-3985-4D62-9915-E8B0EBA27A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Смотровой каби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-6285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ланки истории боле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ланки первичной медицинской к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хемы и таблицы для проведения медицинской сортир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хемы и таблицы  оказания неотложной пом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E3C-8869-423D-9821-DD530C0154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При массовом поступлении пораж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-6285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шалки в вестибюле – ожидальные кушетки, сту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можность развертывания временного стационара со сроком госпитализации на 1 сутки ( при поступлении из очага химической авар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журнал учета доз облучения персон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личие укладки для взятия проб на загрязнения РВ и бактериальными агент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4A2-8BA4-4EEF-B272-452D7505E9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915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4240" indent="-7142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лан (схема) приема пораженных АХОВ для их временной госпитал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личие указателей движения потока пораже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лан дооснащения ПСО приборами для обнаружения ионизирующего излучения, идентификации вида химического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C1A-1CDB-4894-A85A-CA2727C870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-6285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личие указателей с обозначением помещений П-С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лан дооснащения П-СО дыхательной аппаратурой, медикаментам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артуки и нарукавники персоналу П-СО на случай поступления загрязненных Р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нтидоты, средства дезинфекции, дегазации, индивидуальной защиты ко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89D-E0D4-4B07-BA19-8D3293B066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личие в аптеке запаса медикаментов, перевязочного материала и другого медицинского имущества на 72 часа работы П-СО из расчета планируемого приема пораженных согласно плану-зад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тивочумные костюмы на весь персонал П-С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294F-6AC1-4F1B-8FEA-B060BDF0DF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вые хлопчато-бумажные костюмы для работы с пораженными Р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иновые сапоги для всего персонала П-СО при радиоактивном пора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ичие синтетических моющих средств для дезактивации поверхности помещений, вестибюля, сан.пропускника, других помощ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57F-B24E-4A25-A2B6-027342A5E1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-6285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пас систем для переливания крови и кровозамен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ичие диагностических таблиц, позволяющих облегчить сортировку пораже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spcBef>
                <a:spcPts val="24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плекты сортировочных маро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66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D3C-9E75-4BE6-8F80-19182AB94C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820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0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"/>
              </a:rPr>
              <a:t>Документация приемного отделения, определяющая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ffff"/>
                </a:solidFill>
                <a:latin typeface="Arial"/>
              </a:rPr>
              <a:t>его деятельность  при Ч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0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струкция по работе приемного отделения при возникновении ЧС (реальность ее выполнения дежурным персоналом в ночное время и выходные дн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заведующего  отделением  выписка из «Плана действия больницы в ЧС». Выписка утверждается главным врачом ЛП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CC8-CD73-4D4C-BE22-4423AED79F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56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План  (схема) подготовки помещений приемного отделения к раздельному при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568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силочных пораж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одяч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грязненных АХОВ и Р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матических бо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6BD-B0AD-4B21-A833-A5B3514A01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-62856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иски больных лечебных отделений, которые могут быть переведены на амбулаторное лечение (выписаны из стациона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иски готовятся ежедневно, подаются в приемное отделение в конце рабоче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распоряжению главного врача списки могут находиться в другом месте  (лечебная часть, оргметод. отдел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сонал приемного отделения должен быть информирован  и иметь доступ к спис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F91-D535-467E-BD08-8B9E97E71D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37396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План (схема) развертывания </a:t>
            </a:r>
            <a:r>
              <a:rPr b="1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приемно-сортировочного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отделения (план перевода приемного отделения в приемно-сортировочн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хема опове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Штаба ГО Ч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ичного состава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ригад специализированн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озможность сбора персонала приемного отделения, лечебных отделений и аптеки в ноч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54C0-724E-45C7-A0DA-2F26718B0A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915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лан (схема) организации санитарной обработки пораженных, их осмотра и сортир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лан массового приема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ходячих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раженных для осмотра, медицинской сортировки, оказания первой  врачебной помо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531-B308-47A6-8EA2-C70D0752BF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3516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ffff"/>
                </a:solidFill>
                <a:uFillTx/>
                <a:latin typeface="Arial"/>
              </a:rPr>
              <a:t>Обеспечение бесперебойной работы приемно-сортировочного отделения (П-С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ичие вблизи П-С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кспресс-лаборатор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тгеновского кабин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бинета эндоскоп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ичие перевязочной, операционной (операционно-перевязочной), процедурной, гипс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ичие изолятора для инфекционных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02D-43E6-4C4A-9236-FB349DA974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Наличие неснижаемого запа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екарственных сред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еревязоч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редств иммобилизации конеч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ругого  медицинского имущества (расчет 3% от количества коек больницы на первый час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5EA-F1EB-4233-9F50-4FAAE9B1D8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23c"/>
            </a:gs>
            <a:gs pos="50000">
              <a:srgbClr val="02001b"/>
            </a:gs>
            <a:gs pos="100000">
              <a:srgbClr val="0502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ичие помещения для временной госпитализации пораженных и уточнения диагно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ичие достаточного количеств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еял для укрывания пораже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сональное назначение фельдшера (м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) для работы на распределительном по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2A99-16FE-49FB-82A2-C54E7FB413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1:22:06Z</dcterms:created>
  <dc:creator>asd</dc:creator>
  <dc:description/>
  <dc:language>en-US</dc:language>
  <cp:lastModifiedBy>asd</cp:lastModifiedBy>
  <dcterms:modified xsi:type="dcterms:W3CDTF">2006-02-20T12:38:33Z</dcterms:modified>
  <cp:revision>14</cp:revision>
  <dc:subject/>
  <dc:title>Слайд 1</dc:title>
</cp:coreProperties>
</file>