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69C-F479-4E2D-825A-8F09CF7B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6AF-48E4-405D-9CC7-D48DA6C8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571-B815-426F-8116-D9E783A9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31CE-68E3-4195-9F2E-94F5E04C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5049-3351-4502-8A60-17EB6746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184B-0CA8-4D5D-B266-FC7F263B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AD29-2347-4261-A95A-E3BE4B1A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D848-4AD7-458E-A5BD-730052A9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58A-1CE0-4528-9881-3400389A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8C1-7A83-4361-B24D-B954E2CE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E3A5-5D2C-40D2-9657-C945FB9F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2E4-986D-4EFA-980A-45D2B49E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4D97-F768-48E7-B071-909580AC2C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ОГБУЗ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«Территориальный центр медицины катастроф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ff"/>
                </a:solidFill>
                <a:latin typeface="Times New Roman"/>
              </a:rPr>
              <a:t>Действия сотрудни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ff"/>
                </a:solidFill>
                <a:latin typeface="Times New Roman"/>
              </a:rPr>
              <a:t>медицинской организации при угрозе и/или возникновении чрезвычайной ситу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Гл.специалист организационно-методического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тдела  Поснов Н.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 algn="just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ланирование (разработка, согласование и утверждение планов действий по предупреждению и ликвидации ЧС, обучения, тренировок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 algn="just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рганизация проведения обучения персонала и нештатных формирований. Разработка инструкц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 algn="just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рганизация проведения тренировок по действиям персонала при ЧС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 algn="just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рганизация и контроль материально-технического обеспечения (учебно-материальной базы, средств пожарной безопасности, индивидуальных средств защиты, оснащения спец.укладок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 algn="just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рганизация межведомственного взаимодейств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 algn="just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рганизация  СВЯЗ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25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Функции специалиста по ГО и ЧС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1. Реальност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2. Целеустремленност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3. Конкретност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4. Соблюдение необходимой степени детализации при планировани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5. Гибкость (приспособляемость к развитию ситуации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6. Взаимосвязь и непротиворечивость содержания документов планирования (приказов, распоряжений, планов и др.) между собо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7. Правомочность (соответствие правам и обязанностям командиров (начальников) и органов управления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8. Ясность (предполагает возможность их использования без дополнительных разъяснений и уточнений)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бщие требования планиров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олько при регулярном проведении тренировок возможна наработка необходимых навыков и умений у персонала медицинской орган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ормируется понимание своих функций в общем комплексе мероприят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ыявляются недоработки и «слабые места» в порядке действий, инструкц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рабатывается слаженность в действ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вильный подход (без формализма) к проведению тренировок позволит снизить количество безвозвратных и санитарных потер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539640" y="450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ведение тренирово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ждый сотрудник должен знать порядок своих действий при возникновении ЧС. Уверенно выполнять их на тренировках и в ЧС. Добейтесь этог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ветственность за жизнь и здоровье персонала и пациентов лежит не только на главном враче, но и на специалисте по ГО и Ч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рамотная организация подготовительного процесса в период повседневной деятельности определяет уровень готовности к ЧС медицинской организации в цел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ктуа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ли и задач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уководящие докумен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йствия должностных ли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е мероприятия при подготов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нир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ниров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adff"/>
                </a:solidFill>
                <a:latin typeface="Tahoma"/>
              </a:rPr>
              <a:t>6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ыв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16000" y="2421000"/>
            <a:ext cx="871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На территории Российской Федерации в 2018 году произошло 2566 ЧС с медико-санитарными последствиям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Пострадало – 14999 чел., в том числе детей – 3186 чел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Погибло – 4636 чел, из них детей – 537 чел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Госпитализировано 67 % от числа пораженных (дети – 69,6 %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Медико-санитарные последствия чрезвычайных ситуаций (ЧС) в 2018 году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ешня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утрення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бинирован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Чрезвычайная ситуация относительно медицинской организаци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ижение количества безвозвратных потерь и возможных осложнений у поражен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внешней ЧС – предотвратить ситуацию не в наших сил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внутренней и комбинированной ЧС – мы можем минимизировать медико-санитарные последствия ЧС либо предотвратить вовс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ши основные задач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ктивная работа в повседневном режи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товность к реагированию в Ч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Стрелка вниз 2"/>
          <p:cNvSpPr/>
          <p:nvPr/>
        </p:nvSpPr>
        <p:spPr>
          <a:xfrm>
            <a:off x="3924360" y="2924280"/>
            <a:ext cx="1008000" cy="237636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9999"/>
          </a:solidFill>
          <a:ln w="1260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едеральный закон  от 21.12.1994 № 68-ФЗ «О защите населения и территорий от чрезвычайных ситуаций природного и техногенного характер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едеральный закон от 21.11.2011 № 323-ФЗ  «Об охране здоровья граждан Российской Федераци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едеральный  закон от 22.08.1995 № 151-ФЗ «Об аварийно-спасательных службах и статусе спасателе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тановление Правительства Российской Федерации от 26.08.2013                                  № 734  «Об утверждении положения о Всероссийской службе медицины катастроф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я Правительственной комиссии по предупреждению и ликвидации чрезвычайных ситуаций и обеспечению пожарной безопасности (напр. От 21.04.2014 №6 «Порядок разработки, согласования и утверждения планов действий по предупреждению и ликвидации ЧС…»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гламенты МЧС Росс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НОРМАТИВНО-МЕТОДИЧЕСКИЕ ДОКУМЕНТЫ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внешней чрезвычайной ситуац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я ЛЭ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ка и применение формирова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товность к массовому поступлению пострадавш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539640" y="450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ействия должностных лиц медицинской организац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 внутренней или комбинированной Ч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журная смена (в соответствии с инструкциям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клады по инстанция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вакуация пациен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дминистр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оповещ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ЛЭ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астие в КЧ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менение пл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доклад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 ликвид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539640" y="450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ействия должностных лиц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13:54:33Z</dcterms:created>
  <dc:creator>Spiridonova</dc:creator>
  <dc:description/>
  <dc:language>en-US</dc:language>
  <cp:lastModifiedBy>Николай</cp:lastModifiedBy>
  <dcterms:modified xsi:type="dcterms:W3CDTF">2019-11-18T14:35:53Z</dcterms:modified>
  <cp:revision>30</cp:revision>
  <dc:subject/>
  <dc:title>Слайд 1</dc:title>
</cp:coreProperties>
</file>