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6.wmf" ContentType="image/x-wmf"/>
  <Override PartName="/ppt/media/image19.jpeg" ContentType="image/jpeg"/>
  <Override PartName="/ppt/media/image20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A5E5E-E42B-4C39-B83B-952DD70B7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C3466-206D-4542-8D1F-B493F552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2499D-EF16-4C20-BF3C-71A4183DD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E633D-8B7E-4B63-BE67-B0207F89A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F4C59-902D-4AC9-B014-D722DE66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F311A-9C4E-4CB9-8623-5C046870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09BE5-EE15-48C5-A1C7-A0222CA9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7587A-F144-4FF9-AC6C-BCDFC255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CD1AB-4A6C-4421-B16E-497B8553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1AD10-2EAB-4EFF-B160-50CBC914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706F3-D9AE-4BFF-88F3-9CE261A9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615D3-E4B7-48D8-9B37-C366B0BB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marL="216000"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E897-4086-417F-9B59-2D1D9DC80750}" type="slidenum">
              <a:rPr b="0" lang="ru-RU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76640"/>
            <a:ext cx="914400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Организационно-правовые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аспекты первой помощи</a:t>
            </a:r>
            <a:r>
              <a:rPr b="0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141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DejaVu Sans"/>
              </a:rPr>
              <a:t>Первая помощь – комплекс срочных простейших мероприятий по сохранению жизни и здоровья человек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DejaVu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Понятие «первая помощь»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9890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Перечень состояний, при которых оказывается первая помощь, перечень мероприятий по ее оказанию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8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Приказ Минздравсоцразвития России 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8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от 04.05.2012 N477н</a:t>
            </a:r>
            <a:r>
              <a:rPr b="1" lang="en-US" sz="3200" spc="-1" strike="noStrike">
                <a:solidFill>
                  <a:srgbClr val="808080"/>
                </a:solidFill>
                <a:latin typeface="Arial Narrow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852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DejaVu Sans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DejaVu Sans"/>
              </a:rPr>
              <a:t>Об утверждении перечня состояний при которых оказывается первая помощь и перечня мероприятий по оказанию первой помощи»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9640" y="1197000"/>
            <a:ext cx="8280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algn="ctr">
              <a:lnSpc>
                <a:spcPct val="8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533520" indent="-533520">
              <a:lnSpc>
                <a:spcPct val="80000"/>
              </a:lnSpc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Arial Narrow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Отсутствие сознания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533520" indent="-533520">
              <a:lnSpc>
                <a:spcPct val="80000"/>
              </a:lnSpc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Arial Narrow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Остановка дыхания и кровообращения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533520" indent="-533520">
              <a:lnSpc>
                <a:spcPct val="80000"/>
              </a:lnSpc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Arial Narrow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Наружные кровотечения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533520" indent="-533520">
              <a:lnSpc>
                <a:spcPct val="80000"/>
              </a:lnSpc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Arial Narrow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Инородные тела верхних дыхательных путей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533520" indent="-533520">
              <a:lnSpc>
                <a:spcPct val="80000"/>
              </a:lnSpc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Arial Narrow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Травмы различных областей тела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533520" indent="-533520">
              <a:lnSpc>
                <a:spcPct val="80000"/>
              </a:lnSpc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Arial Narrow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Ожоги..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533520" indent="-533520">
              <a:lnSpc>
                <a:spcPct val="80000"/>
              </a:lnSpc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Arial Narrow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Отморожение..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533520" indent="-533520">
              <a:lnSpc>
                <a:spcPct val="80000"/>
              </a:lnSpc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Arial Narrow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Отравления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DejaVu Sans"/>
              </a:rPr>
              <a:t>Перечень состояний, при которых оказывается первая помощь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557360"/>
            <a:ext cx="91440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8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18"/>
                </a:solidFill>
                <a:latin typeface="Arial Narrow"/>
              </a:rPr>
              <a:t>1. Мероприятия по оценке обстановки и обеспечению безопасных условий для оказания первой помощи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18"/>
                </a:solidFill>
                <a:latin typeface="Arial Narrow"/>
              </a:rPr>
              <a:t>2. Вызов скорой медицинской помощи, других специальных служб</a:t>
            </a:r>
            <a:r>
              <a:rPr b="0" lang="en-US" sz="2000" spc="-1" strike="noStrike">
                <a:solidFill>
                  <a:srgbClr val="000018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18"/>
                </a:solidFill>
                <a:latin typeface="Arial Narrow"/>
              </a:rPr>
              <a:t>3. Определение наличия сознания у пострадавшего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18"/>
                </a:solidFill>
                <a:latin typeface="Arial Narrow"/>
              </a:rPr>
              <a:t>4. Мероприятия по восстановлению проходимости дыхательных путей и определению признаков жизни у пострадавшего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18"/>
                </a:solidFill>
                <a:latin typeface="Arial Narrow"/>
              </a:rPr>
              <a:t>5. Мероприятия по проведению сердечно-легочной реанимации до появления признаков жизни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18"/>
                </a:solidFill>
                <a:latin typeface="Arial Narrow"/>
              </a:rPr>
              <a:t>6. Мероприятия по поддержанию проходимости дыхательных путей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18"/>
                </a:solidFill>
                <a:latin typeface="Arial Narrow"/>
              </a:rPr>
              <a:t>7. Мероприятия по обзорному осмотру пострадавшего и временной остановке наружного кровотечения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18"/>
                </a:solidFill>
                <a:latin typeface="Arial Narrow"/>
              </a:rPr>
              <a:t>8. Мероприятия по подробному осмотру пострадавшего в целях выявления признаков травм, отравлений и других состояний, угрожающих его жизни и здоровью, и по оказанию первой помощи в случае выявления указанных состояний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18"/>
                </a:solidFill>
                <a:latin typeface="Arial Narrow"/>
              </a:rPr>
              <a:t>9. Придание пострадавшему оптимального положения тела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18"/>
                </a:solidFill>
                <a:latin typeface="Arial Narrow"/>
              </a:rPr>
              <a:t>10. Контроль состояния пострадавшего (сознание, дыхание, кровообращение) и оказание психологической поддержки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18"/>
                </a:solidFill>
                <a:latin typeface="Arial Narrow"/>
              </a:rPr>
              <a:t>11. Передача пострадавшего бригаде скорой медицинской помощи, другим специальным службам, сотрудники которых обязаны оказывать первую помощь в соответствии с федеральным законом или со специальным правилом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DejaVu Sans"/>
              </a:rPr>
              <a:t>Перечень мероприятий по оказанию первой помощи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42100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Современные наборы средств и устройств, использующиеся для оказания первой помощи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Аптечка первой помощи (автомобильная)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124000" y="1484280"/>
            <a:ext cx="5327640" cy="5327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Аптечка для оказания первой помощи работникам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234936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Общая последовательность действий на месте происшествия с наличием пострадавших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16000" y="2133720"/>
            <a:ext cx="7559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50920" y="836640"/>
            <a:ext cx="5083200" cy="6021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Алгоритм оказания первой помощи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11280" y="2133720"/>
            <a:ext cx="8532720" cy="41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DejaVu Sans"/>
              </a:rPr>
              <a:t>Основные понятия и нормативно-правовые акты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DejaVu Sans"/>
              </a:rPr>
              <a:t>Важность оказания первой помощи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DejaVu Sans"/>
              </a:rPr>
              <a:t>Последовательность выполнения мероприятий первой помощи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DejaVu Sans"/>
              </a:rPr>
              <a:t>Использующееся оснащение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"/>
          <p:cNvSpPr/>
          <p:nvPr/>
        </p:nvSpPr>
        <p:spPr>
          <a:xfrm>
            <a:off x="1116000" y="33336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Цели занятия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84464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Соблюдение правил личной безопасности и обеспечение безопасных условий для оказания первой помощи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4994280" cy="6021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003640" y="1052640"/>
            <a:ext cx="4138920" cy="5465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Обеспечение безопасных условий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256536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Способы извлечения и перемещения пострадавших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15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Извлечение из автомобиля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(пострадавший в сознании)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11480" y="1413000"/>
            <a:ext cx="470052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15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Извлечение из автомобиля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(пострадавший без сознания)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63640" y="1652760"/>
            <a:ext cx="5400720" cy="51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Перемещение в одиночку с поддержкой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735280" y="1484280"/>
            <a:ext cx="375120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Перемещение в одиночку волоком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DejaVu San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473200" y="765000"/>
            <a:ext cx="4338720" cy="60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Перемещение в одиночку на спине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28920" y="907920"/>
            <a:ext cx="4192560" cy="59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Перемещение в одиночку на руках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359080" y="765000"/>
            <a:ext cx="4091040" cy="60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Перемещение в одиночку на плече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20840" y="836640"/>
            <a:ext cx="4338720" cy="60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492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Организация оказания первой помощи в Российской Федерации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Перемещение вдвоем на замке из четырех рук 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11280" y="2349360"/>
            <a:ext cx="4105080" cy="3973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419800" y="1557360"/>
            <a:ext cx="321624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Перемещение вдвоем на замке из трех рук с поддержкой под спину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DejaVu San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589040"/>
            <a:ext cx="5364000" cy="4568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361120" y="1557360"/>
            <a:ext cx="378288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Перемещение вдвоем за руки и ноги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DejaVu San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79640" y="1425600"/>
            <a:ext cx="5616720" cy="545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Перемещение с подозрением на травму позвоночника  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32000" y="1503360"/>
            <a:ext cx="6480000" cy="535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637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Основные правила вызова скорой медицинской помощи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Вызов скорой медицинской помощи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DejaVu San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92360" y="1568520"/>
            <a:ext cx="6192720" cy="52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2205000"/>
            <a:ext cx="9144000" cy="26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85264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Нормативно-правовая база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2781360"/>
            <a:ext cx="8229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татья 31. «Первая помощь»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  <a:ea typeface="DejaVu Sans"/>
              </a:rPr>
              <a:t>«Об основах охраны здоровья граждан Российской Федерации»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DejaVu 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DejaVu Sans"/>
              </a:rPr>
              <a:t>(от 21 ноября 2011 г. N 323-ФЗ)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060640"/>
            <a:ext cx="914400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DejaVu Sans"/>
              </a:rPr>
              <a:t>Статья 31. «Первая помощь»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DejaVu Sans"/>
              </a:rPr>
              <a:t>1. Первая помощь до оказания медицинской помощи оказывается гражданам при несчастных случаях, травмах, отравлениях и других состояниях и заболеваниях, угрожающих их жизни и здоровью...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55640" y="2781360"/>
            <a:ext cx="8229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татья 31. «Первая помощь»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989000"/>
            <a:ext cx="9144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DejaVu Sans"/>
              </a:rPr>
              <a:t>Статья 31. «Первая помощь»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DejaVu Sans"/>
              </a:rPr>
              <a:t>4. Водители транспортных средств и другие лица вправе оказывать первую помощь при наличии соответствующей подготовки и (или) навыков.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«Об основах охраны здоровья граждан Российской Федерации»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DejaVu 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DejaVu Sans"/>
              </a:rPr>
              <a:t>(от 21 ноября 2011 г. N 323-ФЗ)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628640"/>
            <a:ext cx="914400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т. 39 «Крайняя необходимость» УК РФ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«1. Не является преступлением причинение вреда … в состоянии крайней необходимости, то есть для устранения опасности, непосредственно угрожающей личности и правам данного лица …»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т. 2.7 «Крайняя необходимость» КоАП РФ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« Не является административным правонарушением причинение лицом вреда …в состоянии крайней необходимости, то есть для устранения опасности, непосредственно угрожающей личности и правам данного лица…»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Освобождение от ответственности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708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Понятие «первая помощь»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0:05:36Z</dcterms:created>
  <dc:creator>ГКГ МВД РФ</dc:creator>
  <dc:description/>
  <dc:language>en-US</dc:language>
  <cp:lastModifiedBy>GNeudahin</cp:lastModifiedBy>
  <dcterms:modified xsi:type="dcterms:W3CDTF">2019-09-12T07:52:49Z</dcterms:modified>
  <cp:revision>69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