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9BA-6748-40CB-98DA-1267351B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48D8-2F76-4039-BEDF-7C9ACBE2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863B-FCE3-4A8D-A076-DA1E93C2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C68E-5A29-4570-A7D7-04BC059E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BF31-34EA-4F86-81A0-BF524D60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C71F-FDCA-49BA-8C22-D6B151AA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A457-1AA1-47CB-BFBA-8E59EA54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D2D9-FC62-40B9-8799-35DC75E5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B4F1-E5CE-41A7-953B-3562DA38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7DF6-B307-45E4-9E5B-299F7836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3A4D-BB55-4A3B-9C1E-59A98442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8CB5-8346-4C6C-994D-47415DB5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2459-25E9-42BE-935F-5C6AD7F5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DD49-F0CF-4949-8FE3-9D5E0100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D696-0C71-4079-9C45-1105306C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3E36-B99F-4C44-B482-31C92DDE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DFFF-4872-480A-88C7-E3121D76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9005-28CA-4D7A-A01E-9E1EDD02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B5F6-0FD3-48F5-A0C0-CDEBB136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F4C2-01C7-4D8C-84EF-0EBE0F48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9618-DEB9-44E2-81ED-0F175B23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76BC-8D24-4D1B-BE22-6637288F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088F-110B-4758-BF70-AF3C42C4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83F5-EC92-4AFF-90CB-F387F505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33FA-9460-4E6C-92F8-DF83D93F04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9EBB-1247-4749-974D-8BD7FAD3EB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1628640"/>
            <a:ext cx="91440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 Narrow"/>
              </a:rPr>
              <a:t>Оказание первой помощи при прочих состояния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187280" y="2060640"/>
            <a:ext cx="676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0" y="2781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Оптимальные положения тела пострадавше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С травмами груд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60" descr=""/>
          <p:cNvPicPr/>
          <p:nvPr/>
        </p:nvPicPr>
        <p:blipFill>
          <a:blip r:embed="rId1"/>
          <a:stretch/>
        </p:blipFill>
        <p:spPr>
          <a:xfrm>
            <a:off x="2340000" y="1125360"/>
            <a:ext cx="4305240" cy="5732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С травмами живота (таза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59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3340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С потерей созн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61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948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С признаками кровопотер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62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3432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С травмами позвоночн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63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784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С тяжелыми травм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64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3251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187280" y="2060640"/>
            <a:ext cx="676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0" y="2781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Виды ожогов, первая помощ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116000" y="2133720"/>
            <a:ext cx="75596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98636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187280" y="2060640"/>
            <a:ext cx="676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0" y="2781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Перегревание, оказание первой помощ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187280" y="2060640"/>
            <a:ext cx="676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78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122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187280" y="2060640"/>
            <a:ext cx="676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0" y="2781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Холодовая травма, оказание первой помощ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187280" y="2060640"/>
            <a:ext cx="676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2584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87280" y="2060640"/>
            <a:ext cx="676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0" y="2781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Отравления, оказание первой помощ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Основные принцип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0" y="1557360"/>
            <a:ext cx="91440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Прекратить поступление яда в организм пострадавш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Выяснить, какой вид отравляющего вещества был прин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Попытаться удалить 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Оценить состояние пострадавшего и оказать первую помощь в зависимости от его тяжести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0:05:36Z</dcterms:created>
  <dc:creator>ГКГ МВД РФ</dc:creator>
  <dc:description/>
  <dc:language>en-US</dc:language>
  <cp:lastModifiedBy>GNeudahin</cp:lastModifiedBy>
  <dcterms:modified xsi:type="dcterms:W3CDTF">2019-09-12T07:59:30Z</dcterms:modified>
  <cp:revision>683</cp:revision>
  <dc:subject/>
  <dc:title>Слайд 1</dc:title>
</cp:coreProperties>
</file>