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2A8-4836-4A90-9B04-4079116F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61B-67DE-421C-9BF7-8F80FEC0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CD3-8CE3-4708-896B-1405C847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582-E482-4387-9F43-0F1E5F10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B1D8E-C966-485F-91B5-FF2C307D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39DF9-49F2-47AF-9A57-9DB61D8A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07F2E-E067-4D9E-9898-FC5E7065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857F9-CB5A-4147-B01F-F91E2768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BF732-B38A-48EA-B16C-84C42143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37B64-A5E0-466E-9729-FEA86621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4869A-2ED1-4EC3-836B-18A43BC8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AFE-C5BF-4691-AD8D-2DD61FDC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79618-7AE3-4FAA-B8FA-7967FF53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81C5B-75F9-43FD-96C7-D58951C0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92803-7A00-4068-9AC1-A3DB95C1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7FFAA-65A4-4A58-B5A5-32CE0E12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08A29-367A-4B36-A848-D1D0AA0B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FD5-4C1B-4931-9EF9-1CA41D76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266-9162-4B29-A751-0CD1A1C9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67F-38FB-4488-99D4-B4594143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EAB-FC43-4997-89C4-E5C6ACAE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DF9-5D82-4D4F-ACA7-F52914E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088-7D2B-47B7-9104-72FF0007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F75-EDC2-40B0-AD11-0BD8B15D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Click to edit the outline text format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1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Second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2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Third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3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Fourth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4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Fifth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5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Sixth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6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Seventh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fld id="{B6E275D1-CB82-4710-9371-5A53DC0B779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31666814-AEEC-46FD-B981-A9055001D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</a:tabLst>
            </a:pPr>
            <a:fld id="{E26514FF-92A5-4EF3-8785-85F74434B25F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292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Травмы конечностей, оказание первой помощ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Иммобил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557360"/>
            <a:ext cx="3540240" cy="446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59403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2924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Травмы позвоноч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птимальное по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4872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еремещ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276720" y="2006640"/>
            <a:ext cx="5867280" cy="485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0" y="907920"/>
            <a:ext cx="385128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24T08:16:30Z</dcterms:created>
  <dc:creator/>
  <dc:description/>
  <dc:language>en-US</dc:language>
  <cp:lastModifiedBy/>
  <cp:lastPrinted>2023-01-24T08:16:30Z</cp:lastPrinted>
  <dcterms:modified xsi:type="dcterms:W3CDTF">2023-01-24T08:16:31Z</dcterms:modified>
  <cp:revision>1</cp:revision>
  <dc:subject/>
  <dc:title/>
</cp:coreProperties>
</file>