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A83-1E1C-4B5A-9D62-40BABEEE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882A-B3F5-4F8C-A9B9-7C32C79F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0E2-E86A-484E-A7FA-8F228968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10E6-044A-4110-9E4E-773DC53B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59A15-839C-445C-87DC-B091A456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865D6-24C1-4ED0-B13A-C42CD2F8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DC093-F93D-4C87-A9B2-6A18BE03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90522-182F-459F-90E8-D7A6A618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B914A-DBCD-4A5D-86BC-AFD8BBD1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F753F-EF65-44B8-A2BD-8228B315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C5E18-8B83-4E88-9FDB-2AB28374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94B9-5FF3-4ACE-B38E-88573A9F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1AB93-0AD3-4E8D-A2BB-055627DF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DB6FA-4AE6-4530-B511-284D1974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D2023-EF65-4C38-BBDE-CC25A022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3BA35-0C4D-4B2D-B1CB-4B194034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8A322-2BB8-42DA-9A97-46619DE1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ED7-BF54-4E0F-954A-3864EDCF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9B1-376F-4B07-9387-A30CC87E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8BB0-B0A1-49E9-B060-B82371A1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7D83-07E7-44DB-A8F1-3786E0E1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231B-72E3-40B5-A7D9-42DCC548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851C-D979-4B54-8F35-8939F45D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2B94-BC72-4D3F-A688-F7663F62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DejaVu Serif"/>
              </a:rPr>
              <a:t>Click to edit the outline text format</a:t>
            </a:r>
            <a:endParaRPr b="0" lang="en-US" sz="0" spc="-1" strike="noStrike">
              <a:solidFill>
                <a:srgbClr val="000000"/>
              </a:solidFill>
              <a:latin typeface="DejaVu Serif"/>
            </a:endParaRPr>
          </a:p>
          <a:p>
            <a:pPr lvl="1">
              <a:buClr>
                <a:srgbClr val="000000"/>
              </a:buClr>
              <a:buFont typeface="Arial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DejaVu Serif"/>
              </a:rPr>
              <a:t>Second Outline Level</a:t>
            </a:r>
            <a:endParaRPr b="0" lang="en-US" sz="0" spc="-1" strike="noStrike">
              <a:solidFill>
                <a:srgbClr val="000000"/>
              </a:solidFill>
              <a:latin typeface="DejaVu Serif"/>
            </a:endParaRPr>
          </a:p>
          <a:p>
            <a:pPr lvl="2">
              <a:buClr>
                <a:srgbClr val="000000"/>
              </a:buClr>
              <a:buFont typeface="Arial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DejaVu Serif"/>
              </a:rPr>
              <a:t>Third Outline Level</a:t>
            </a:r>
            <a:endParaRPr b="0" lang="en-US" sz="0" spc="-1" strike="noStrike">
              <a:solidFill>
                <a:srgbClr val="000000"/>
              </a:solidFill>
              <a:latin typeface="DejaVu Serif"/>
            </a:endParaRPr>
          </a:p>
          <a:p>
            <a:pPr lvl="3">
              <a:buClr>
                <a:srgbClr val="000000"/>
              </a:buClr>
              <a:buFont typeface="Arial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DejaVu Serif"/>
              </a:rPr>
              <a:t>Fourth Outline Level</a:t>
            </a:r>
            <a:endParaRPr b="0" lang="en-US" sz="0" spc="-1" strike="noStrike">
              <a:solidFill>
                <a:srgbClr val="000000"/>
              </a:solidFill>
              <a:latin typeface="DejaVu Serif"/>
            </a:endParaRPr>
          </a:p>
          <a:p>
            <a:pPr lvl="4">
              <a:buClr>
                <a:srgbClr val="000000"/>
              </a:buClr>
              <a:buFont typeface="Arial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DejaVu Serif"/>
              </a:rPr>
              <a:t>Fifth Outline Level</a:t>
            </a:r>
            <a:endParaRPr b="0" lang="en-US" sz="0" spc="-1" strike="noStrike">
              <a:solidFill>
                <a:srgbClr val="000000"/>
              </a:solidFill>
              <a:latin typeface="DejaVu Serif"/>
            </a:endParaRPr>
          </a:p>
          <a:p>
            <a:pPr lvl="5">
              <a:buClr>
                <a:srgbClr val="000000"/>
              </a:buClr>
              <a:buFont typeface="Arial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DejaVu Serif"/>
              </a:rPr>
              <a:t>Sixth Outline Level</a:t>
            </a:r>
            <a:endParaRPr b="0" lang="en-US" sz="0" spc="-1" strike="noStrike">
              <a:solidFill>
                <a:srgbClr val="000000"/>
              </a:solidFill>
              <a:latin typeface="DejaVu Serif"/>
            </a:endParaRPr>
          </a:p>
          <a:p>
            <a:pPr lvl="6">
              <a:buClr>
                <a:srgbClr val="000000"/>
              </a:buClr>
              <a:buFont typeface="Arial"/>
              <a:buChar char="•"/>
            </a:pPr>
            <a:r>
              <a:rPr b="0" lang="en-US" sz="0" spc="-1" strike="noStrike">
                <a:solidFill>
                  <a:srgbClr val="000000"/>
                </a:solidFill>
                <a:latin typeface="DejaVu Serif"/>
              </a:rPr>
              <a:t>Seventh Outline Level</a:t>
            </a:r>
            <a:endParaRPr b="0" lang="en-US" sz="0" spc="-1" strike="noStrike">
              <a:solidFill>
                <a:srgbClr val="000000"/>
              </a:solidFill>
              <a:latin typeface="DejaVu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</a:tabLst>
            </a:pPr>
            <a:fld id="{A75FBC00-9BA5-4144-8E98-75AEFE5DDAA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11BAAECA-EAA5-4319-9A09-D27BD00B4F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</a:tabLst>
            </a:pPr>
            <a:fld id="{1B1A604B-B553-4032-A531-F9A1918A6BB2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1187280" y="2060640"/>
            <a:ext cx="676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2781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Подробный осмотр пострадавше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755640" y="692280"/>
            <a:ext cx="838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200320" y="1197000"/>
            <a:ext cx="5187960" cy="52563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0" y="30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Остановка кровоте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755640" y="692280"/>
            <a:ext cx="838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900000" y="3024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DejaVu Sans"/>
              </a:rPr>
              <a:t>Фиксация шейного отдела позвоноч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4716360" cy="3854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4788000" y="1671480"/>
            <a:ext cx="43560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755640" y="692280"/>
            <a:ext cx="838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2852640"/>
            <a:ext cx="914400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Травмы груд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оказание первой помощ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755640" y="692280"/>
            <a:ext cx="838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1773360"/>
            <a:ext cx="5651640" cy="3290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Наложение окклюзионной повяз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5380200" y="1557360"/>
            <a:ext cx="3763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755640" y="692280"/>
            <a:ext cx="838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2565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Травмы живота и таза, оказание первой помощ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755640" y="692280"/>
            <a:ext cx="838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Оптимальное по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755640" y="692280"/>
            <a:ext cx="838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Осмотр головы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DejaVu San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264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755640" y="692280"/>
            <a:ext cx="838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Осмотр ше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545080" cy="46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755640" y="692280"/>
            <a:ext cx="838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Осмотр груд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547236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755640" y="692280"/>
            <a:ext cx="838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Осмотр живота (таза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66960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755640" y="692280"/>
            <a:ext cx="838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Осмотр конечнос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981000"/>
            <a:ext cx="4788000" cy="3363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4500720" y="2685960"/>
            <a:ext cx="4643280" cy="41720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0" y="1819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50385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755640" y="692280"/>
            <a:ext cx="838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08000" y="2852640"/>
            <a:ext cx="903600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Травмы головы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оказание первой помощ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755640" y="692280"/>
            <a:ext cx="838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Остановка кровоте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5076720" y="2060640"/>
            <a:ext cx="3625920" cy="3672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3889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755640" y="692280"/>
            <a:ext cx="838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2852640"/>
            <a:ext cx="914400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Травмы ше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DejaVu Sans"/>
              </a:rPr>
              <a:t>оказание первой помощ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24T08:16:26Z</dcterms:created>
  <dc:creator/>
  <dc:description/>
  <dc:language>en-US</dc:language>
  <cp:lastModifiedBy/>
  <cp:lastPrinted>2023-01-24T08:16:26Z</cp:lastPrinted>
  <dcterms:modified xsi:type="dcterms:W3CDTF">2023-01-24T08:16:30Z</dcterms:modified>
  <cp:revision>1</cp:revision>
  <dc:subject/>
  <dc:title/>
</cp:coreProperties>
</file>