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8B9-4DBD-4276-B39B-4D8C890A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4E3-D6D6-4894-BA23-AB4E5666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507-36F1-4E60-8BAC-86FEA1EC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DA5-1739-4F64-8319-649236F8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4F44D-FC18-4BD1-BDF4-575D6F0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EB66-1110-4553-AC66-1978AB9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E4A1-C5C3-4E94-9878-F330617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84D8-A711-4BB4-B324-F7C00BA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8B46-6B59-4BB3-80A7-179E22E6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2F230-AE71-4430-975B-25F4AF4A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A7CFB-708E-4A49-9AA3-9C4DCDF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9C8-9A38-423F-AC3D-EDE79AC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20F25-8FE7-4BDF-8132-DEA1C67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AE4F0-F7CC-454B-A211-444C5E5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BCCF-6CA9-49E8-BF31-D3B5B6A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29870-D588-48EB-B743-531AD61D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F33A4-834E-4141-AEE8-5E55D95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57F-5D2A-4CED-B7D7-1BC8590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660-E24B-41B9-86BD-C09B61EC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72B-60A4-4376-9034-A1F6806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1D6-2860-483C-AD92-DDBC923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D75-0F30-4552-B6C2-8CD870A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6ED-0810-41BE-BB43-3C9B38A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0A0-F818-460B-8688-B032E20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1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2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3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4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5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6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ED11E800-15A2-48EF-9FFD-0E9FE9254B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04E6DD9-54EC-4DFD-87C2-C3531B6EE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</a:pPr>
            <a:fld id="{FD63CFD7-DF0D-4FAF-A2F5-7C65965B3623}" type="slidenum">
              <a:rPr b="0" lang="en-US" sz="1400" spc="-1" strike="noStrike">
                <a:solidFill>
                  <a:srgbClr val="ffffff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1628640"/>
            <a:ext cx="914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Оказание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DejaVu San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ервой помощи при наружных кровотечениях и травмах</a:t>
            </a:r>
            <a:br>
              <a:rPr sz="36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альцевое прижатие подключичной арте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862280"/>
            <a:ext cx="320364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168360" cy="273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3132000" cy="2552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4619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альцевое прижатие плечевой арте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507672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067280" y="3821040"/>
            <a:ext cx="5076720" cy="3036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2781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альцевое прижатие подмышечной арте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2876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932360" cy="3789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альцевое прижатие бедренной арте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5219640" cy="255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03640" y="3051000"/>
            <a:ext cx="4140360" cy="3807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3162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1994040"/>
            <a:ext cx="3780000" cy="2960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Максимальное сгибание конечн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952720" cy="238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32767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6291360" y="2565360"/>
            <a:ext cx="285264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Наложение кровоостанавливающего жгу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2438280"/>
            <a:ext cx="3276720" cy="305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3348000" y="2637000"/>
            <a:ext cx="31021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11280" y="2133720"/>
            <a:ext cx="799308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DejaVu Sans"/>
              </a:rPr>
              <a:t>Различные виды кровотеч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DejaVu Sans"/>
              </a:rPr>
              <a:t>Способы остановки кровотеч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DejaVu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DejaVu Sans"/>
              </a:rPr>
              <a:t>Особенности оказания первой помощи при травмах различных областей т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116000" y="333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Цель занят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116000" y="2133720"/>
            <a:ext cx="755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30480" y="49320"/>
            <a:ext cx="47498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78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Обзорный осмотр пострадавше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804960" y="711360"/>
            <a:ext cx="7296120" cy="6113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Выполнение обзорного осмот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Способы временной остановки наружного кровотеч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24000" y="846000"/>
            <a:ext cx="8532720" cy="601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рямое давление на ран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365200" y="765000"/>
            <a:ext cx="446724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Наложение давящей повяз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DejaVu Sans"/>
              </a:rPr>
              <a:t>Пальцевое прижатие сонной арте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277164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987640" y="2492280"/>
            <a:ext cx="2844720" cy="324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867280" y="2746440"/>
            <a:ext cx="3097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4T08:16:17Z</dcterms:created>
  <dc:creator/>
  <dc:description/>
  <dc:language>en-US</dc:language>
  <cp:lastModifiedBy/>
  <cp:lastPrinted>2023-01-24T08:16:17Z</cp:lastPrinted>
  <dcterms:modified xsi:type="dcterms:W3CDTF">2023-01-24T08:16:25Z</dcterms:modified>
  <cp:revision>1</cp:revision>
  <dc:subject/>
  <dc:title/>
</cp:coreProperties>
</file>