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916280"/>
            <a:ext cx="914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казание первой помощи при отсутствии сознания, остановке дыхания и кровообращени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Давление на грудину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06480"/>
            <a:ext cx="4284720" cy="3965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40360" y="1125360"/>
            <a:ext cx="5003640" cy="462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2002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6577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Искусственное дыхание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781200"/>
            <a:ext cx="691380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76640"/>
            <a:ext cx="9144000" cy="22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Мероприятия, выполняемые после прекращения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сердечно-легочной реанимаци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Шаг 1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858960"/>
            <a:ext cx="838836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Шаг 2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784080"/>
            <a:ext cx="8604360" cy="607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Шаг 3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800280"/>
            <a:ext cx="7380360" cy="60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Шаг 4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Устойчивое боковое положение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Шаг 1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276640"/>
            <a:ext cx="9144000" cy="22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Нарушение проходимости верхних дыхательных путей, первая помощь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68360" y="404640"/>
            <a:ext cx="867564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DejaVu Sans"/>
              </a:rPr>
              <a:t>Рекомендаци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37562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ризнак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32116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опытка произвольного кашля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26920" y="779400"/>
            <a:ext cx="7380360" cy="60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Удары между лопаткам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16000" y="855720"/>
            <a:ext cx="673272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Надавливания на живот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087560"/>
            <a:ext cx="4716360" cy="4292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95640" y="1127160"/>
            <a:ext cx="514836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Удары по спине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042920"/>
            <a:ext cx="7308720" cy="58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Надавливания на грудную клетку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32000" y="804960"/>
            <a:ext cx="7056360" cy="60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76640"/>
            <a:ext cx="9144000" cy="22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Современный алгоритм проведения сердечно-легочной реанимаци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беспечение безопасност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875120" cy="587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46600" y="1052640"/>
            <a:ext cx="43974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роверка сознания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722160"/>
            <a:ext cx="7740720" cy="613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ткрытие дыхательных путей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804960"/>
            <a:ext cx="7777440" cy="60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роверка дыхания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762120"/>
            <a:ext cx="74167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5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Вызов скорой медицинской помощи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64360" cy="53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Давление на грудину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002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6577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851040"/>
            <a:ext cx="6120000" cy="600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0:05:36Z</dcterms:created>
  <dc:creator>ГКГ МВД РФ</dc:creator>
  <dc:description/>
  <dc:language>en-US</dc:language>
  <cp:lastModifiedBy>GNeudahin</cp:lastModifiedBy>
  <dcterms:modified xsi:type="dcterms:W3CDTF">2019-09-12T07:53:21Z</dcterms:modified>
  <cp:revision>6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