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57C-D1B8-48C4-A18A-F61E7BE64B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5DC-51A1-411C-9C78-0E9B24D5BE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73C-8E9B-4699-A8AF-1BABFEE5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66A-A3B0-49F5-AF8C-5FD993F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C77-E85B-41D9-BD89-49A69FCD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411-FF25-4ED1-A5AF-A0AA5984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81B-9444-4C59-A30F-82895ACE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9A6E-A46E-4BD2-B44F-FB88C5F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5595-041B-4007-A0FF-D5BB794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8E5F-A6FA-4033-BA17-2C6CC23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576C-966C-4A1A-9B6A-10CB729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701E-C879-48EA-AFD3-86A258B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79A-1787-4DB2-91B6-B94C752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866-E3ED-442F-9E5B-74ABBEF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9625-04AD-4106-9E99-F0659FB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8FF0-B5F5-44B1-BF73-14057F0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D07-6FFE-4961-B54E-0D777F3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7F7-2E93-4CA4-A0E5-30B098DD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5B99-113D-487C-B0FB-B0B548D1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D276-B081-485F-BC5C-ECED8AA2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AF12-C986-4A30-B419-EDD81C69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E9D8-F6BC-4EC9-9A04-D9666F2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5C1E-AE53-4583-A5AC-6995124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01C0-FB2A-425E-B47D-45111275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506-E03A-4D98-82FF-3353C46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A711-8688-4BD4-89F8-C4DAC0F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2BF3-8995-472F-BC9F-B907B26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5EC6-E1F9-48D6-B4E5-E68CDDC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6B2C-E4A1-44DB-8D0C-5EEB3BF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6D5E-7BA0-4F61-9843-9DBC85D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BF7D-9CDD-4457-B996-904D0889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56C8-D0B2-434D-A4B5-EBD4AE5B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862D-0B73-48E9-A1CA-E8C25776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A54B-B68E-42C0-98F7-B6E6B716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5C96-8006-4EDA-9A41-10B5C739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6A3-1B1B-4907-9F6A-2B282941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D0A7-CB51-4CCF-8FDE-57AAB68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2708-1CA8-4603-A705-8555B064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45AA-EDB6-4972-9780-C974CDF9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203C-DB46-489E-941D-6325B72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ED61-7CEB-454D-809F-70507B9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52CC-8A5D-4B9D-B1B5-CBE843D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FC2F-02BC-440B-A5E3-3BB06627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0A15-AE24-49EE-A5D4-60536199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B266-0C30-4E8F-AE69-E71B17D4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80E-CE16-4171-892A-AEA7E225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3FD-BC4D-486E-8314-FD75F2C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DFC-6480-487B-8C1A-15F5A9B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18A-0D9C-48C3-ADAA-DB15441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E7C-C40A-4418-98FE-EA99139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C1F2-1EB8-41DB-8B4A-776DFB2685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52F-9F0C-40A3-A247-116AED622F1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2D8-D98A-4A14-9AED-85633AB5EC5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E5F-9ECC-4EDC-9570-B2A9F65CCB1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.начальника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9/10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11/12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13/14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1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8000" y="719280"/>
            <a:ext cx="5437080" cy="39020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838080" y="4952880"/>
            <a:ext cx="1752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816120"/>
            <a:ext cx="327672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графа 6/7 ≥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9/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67280" y="1523880"/>
            <a:ext cx="327672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графа 6/7 ≥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11/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67280" y="2232000"/>
            <a:ext cx="327672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графа 6/7 ≥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13/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575784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10 графа 9/10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4762440" y="5757840"/>
            <a:ext cx="2895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10 графа 15/16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67280" y="2941560"/>
            <a:ext cx="326556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9/10 ≥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15/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10 графа 11/12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208480" y="6400800"/>
            <a:ext cx="2895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10 графа 17/18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1008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11/12 ≥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графа 17/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(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000 стр.  1  графа  4 / 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 стр.  1  графа  11 / 1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000  стр.  1  графа  8 / 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10  стр.  1  графа  17 / 18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, развернутых в Ч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4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609480" y="1636560"/>
            <a:ext cx="78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 МЕДИЦИНСКОЙ ЭВАКУ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6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консультативной медицинской помощи и медицинской эвакуац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0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0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309600" y="189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консультативной медицинской помощи и медицинской эвакуац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консультативной медицинской помощи и медицинской эвакуаци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76320" y="674640"/>
          <a:ext cx="6095880" cy="6174000"/>
        </p:xfrm>
        <a:graphic>
          <a:graphicData uri="http://schemas.openxmlformats.org/drawingml/2006/table">
            <a:tbl>
              <a:tblPr/>
              <a:tblGrid>
                <a:gridCol w="5486400"/>
                <a:gridCol w="60948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о: препаратов крови, лит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грузов, тон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≥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6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343800" y="8683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272880" y="3445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отделения экстренной консультативной медицинской помощи и медицинской эвакуац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0" name="Таблица 3" descr=""/>
          <p:cNvPicPr/>
          <p:nvPr/>
        </p:nvPicPr>
        <p:blipFill>
          <a:blip r:embed="rId1"/>
          <a:stretch/>
        </p:blipFill>
        <p:spPr>
          <a:xfrm>
            <a:off x="255600" y="1200240"/>
            <a:ext cx="8358120" cy="45846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5"/>
          <p:cNvSpPr/>
          <p:nvPr/>
        </p:nvSpPr>
        <p:spPr>
          <a:xfrm>
            <a:off x="2405160" y="3124080"/>
            <a:ext cx="62053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5+7+8+9+10+11+12+13+15+16+17+18+1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90360" y="5638680"/>
            <a:ext cx="89773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</a:t>
            </a:r>
            <a:r>
              <a:rPr b="1" i="1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х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х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х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х организациях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2422440" y="3786120"/>
            <a:ext cx="617220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7  =   графа  11 + 15 + 1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8  =   графа  12 + 16 + 2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9  =   графа  13 + 17 + 2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4 + 18 + 2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1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Прямоугольник 1"/>
          <p:cNvSpPr/>
          <p:nvPr/>
        </p:nvSpPr>
        <p:spPr>
          <a:xfrm>
            <a:off x="174600" y="2475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3 (4) = таблица 4 000  стр. 1 гр.3 (4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28600" y="4248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/11 + стр. 1 гр. 19/20 = таблица 4 000  стр. 1 гр. 5/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консультативной медицинской помощи и медицинской эвакуации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71440" y="55976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3 гр.3 /4 = таблица 4 000  стр. 1 гр.7/8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533520" y="3790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указываем число формирований задействованных в СМК (на конец отчетного года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5382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 указываем количество выездов  формирований СМК  на ликвидацию медико-санитарных последствий ЧС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576360" y="3971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количестве ЧС с медико-санитарными последствиями должны соответствовать, представленным донесениям в ВЦМК «ЗАЩИТА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3827520" cy="24400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604800" y="4618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хногенных ЧС руководствоваться критериями, принятыми на совещании 5 апреля 2013г. под председательством заместителя Министра здравоохранения РФ Каграманяна Игоря Николаевич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304920" y="55418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хногенных ЧС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е критер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исло погибших 2 чел. и более или число госпитализированных 4 чел. и более или 10 пострадавших и более;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ДТ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гибших 5 чел. и более или 10 пострадавших и боле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1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290"/>
                            </p:stCondLst>
                            <p:childTnLst>
                              <p:par>
                                <p:cTn id="16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390"/>
                            </p:stCondLst>
                            <p:childTnLst>
                              <p:par>
                                <p:cTn id="170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1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3" dur="1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8360" y="15159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Таблица 8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107560" cy="27561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1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8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0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190440" y="4616280"/>
            <a:ext cx="887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, которым оказана первая помощь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медико-санитарная + специализированная, в т.ч. высокотехнологичная + скорая, в т.ч. скорая специализированная мед. помощ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таблица 4000 графа 6/7 ≤ таблица 4000 графа 18/19 + таблица 4010       графа 3/4 +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5/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7/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68120" y="60008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194040" y="154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695160" y="560520"/>
            <a:ext cx="7875720" cy="3956040"/>
          </a:xfrm>
          <a:prstGeom prst="rect">
            <a:avLst/>
          </a:prstGeom>
          <a:ln w="0">
            <a:noFill/>
          </a:ln>
        </p:spPr>
      </p:pic>
      <p:sp>
        <p:nvSpPr>
          <p:cNvPr id="241" name="Левая фигурная скобка 7"/>
          <p:cNvSpPr/>
          <p:nvPr/>
        </p:nvSpPr>
        <p:spPr>
          <a:xfrm>
            <a:off x="7238880" y="55990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6-12-09T08:43:46Z</dcterms:modified>
  <cp:revision>4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